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4746-7166-4F29-82EF-BD4AB75A2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15D0-BCDE-4394-B072-F63ACF4D25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848E-3875-44D6-936A-C7EEA7BA0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EB86-ABE3-4E5D-A79D-15FB133B78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D60-3CF7-4A79-A895-1BD57DAE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488-F78F-44BF-88AB-63752F53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3CA-8695-44D5-A680-F665BCBB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5AB-9ABD-471F-AB63-39CA68D7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E408-2BBF-43C5-8965-59989764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7F47-B84F-4553-971D-D7438CD5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B0B9-A53E-4359-9617-BCBA3326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587F-F495-4D8B-B4F5-2E6DE9BB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37EA-8FE0-4D49-B5CF-724F7355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4DAE-34E1-4737-8B9F-6E1BF04E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CFEB-031A-4A02-BC51-B2EA275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80A-12EB-45C2-B52C-182015AF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99DE-B6A1-4624-A346-ED341975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A0A9-B241-436D-A133-C687C687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16B2-EBD8-40E1-BD9F-482669C1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0A05-89CC-433B-9104-17F533F7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35B6-98B9-4E3D-89DF-B737088C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B4D-7778-46F8-BBEA-BF6D034A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40A-1A7E-4847-9D03-9BB3C913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26B-3EC7-4C6E-A55D-6C104EC9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B75-5113-4A5C-B556-25E92A89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C27-614D-4A94-91A3-C6811329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3BF-8D55-4A69-820C-6CA0F59B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18F-E301-4F34-A784-28465A27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4F61-1EC5-441B-971F-744FF9AB2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E05E-7A8C-40A0-B0E4-7A755C44B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1763640" y="399960"/>
            <a:ext cx="62643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авляющие отношения забирают огромное количество энергии. Напряженность и конфликты истощают силы, доброе отношение и предоставленная возможность быть собой воодушевляют и наполняют энерг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ьюзан Форв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619280" y="1356120"/>
            <a:ext cx="7524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Не копай другому яму- сам в неё попад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Не плюй в колодец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авось придется вод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напитьс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Как аукнется, так и откликн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Поделись улыбкою своей, и она еще не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к тебе вернется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188000" y="406080"/>
            <a:ext cx="65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Calibri"/>
              </a:rPr>
              <a:t>2 Этап 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  <a:ea typeface="Calibri"/>
              </a:rPr>
              <a:t>«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Calibri"/>
              </a:rPr>
              <a:t>Вопросы от блондинок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397160"/>
          <a:ext cx="8569080" cy="4065480"/>
        </p:xfrm>
        <a:graphic>
          <a:graphicData uri="http://schemas.openxmlformats.org/drawingml/2006/table">
            <a:tbl>
              <a:tblPr/>
              <a:tblGrid>
                <a:gridCol w="1387440"/>
                <a:gridCol w="2039760"/>
                <a:gridCol w="1325520"/>
                <a:gridCol w="1295640"/>
                <a:gridCol w="252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е тело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- один из видов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ия- способность совершать раб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 Д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дная мушка Машка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мментарий учителя.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835280" y="260280"/>
            <a:ext cx="66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3 Этап «Наши руки не для скуки…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этап практическ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нутый угол 2"/>
          <p:cNvSpPr/>
          <p:nvPr/>
        </p:nvSpPr>
        <p:spPr>
          <a:xfrm>
            <a:off x="2843280" y="1413000"/>
            <a:ext cx="288108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нутый угол 3"/>
          <p:cNvSpPr/>
          <p:nvPr/>
        </p:nvSpPr>
        <p:spPr>
          <a:xfrm>
            <a:off x="2843280" y="2708280"/>
            <a:ext cx="295272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сказк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нутый угол 4"/>
          <p:cNvSpPr/>
          <p:nvPr/>
        </p:nvSpPr>
        <p:spPr>
          <a:xfrm>
            <a:off x="3059280" y="3357720"/>
            <a:ext cx="295272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сказк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нутый угол 5"/>
          <p:cNvSpPr/>
          <p:nvPr/>
        </p:nvSpPr>
        <p:spPr>
          <a:xfrm>
            <a:off x="3419640" y="4076640"/>
            <a:ext cx="295272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сказк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нутый угол 6"/>
          <p:cNvSpPr/>
          <p:nvPr/>
        </p:nvSpPr>
        <p:spPr>
          <a:xfrm>
            <a:off x="3635280" y="4869000"/>
            <a:ext cx="295272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сказк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нутый угол 7"/>
          <p:cNvSpPr/>
          <p:nvPr/>
        </p:nvSpPr>
        <p:spPr>
          <a:xfrm>
            <a:off x="3924360" y="5661000"/>
            <a:ext cx="2951280" cy="1008000"/>
          </a:xfrm>
          <a:prstGeom prst="foldedCorner">
            <a:avLst>
              <a:gd name="adj" fmla="val 166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сказк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C:\Users\Администратор\Desktop\урок\13.06NA-RABOT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>
            <a:alpha val="2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611280" y="333360"/>
            <a:ext cx="73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4 Этап «Задача чистого интеллекта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907920"/>
          <a:ext cx="8135640" cy="5761080"/>
        </p:xfrm>
        <a:graphic>
          <a:graphicData uri="http://schemas.openxmlformats.org/drawingml/2006/table">
            <a:tbl>
              <a:tblPr/>
              <a:tblGrid>
                <a:gridCol w="1627200"/>
                <a:gridCol w="1627200"/>
                <a:gridCol w="1626840"/>
                <a:gridCol w="1627200"/>
                <a:gridCol w="162720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0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усок массо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500 г соскальзывает по наклонной поверхности с высоты h = 0,8 м и, двигаясь по горизонтальной поверхности, сталкивается с неподвижным бруском массой m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300 г. Считая столкновение абсолютно неупругим, определите изменение кинетической энергии первого бруска в результате столкновения. Трением при движении пренебречь. Считать, что наклонная плоскость плавно переходит в горизонтальную. Ответ округлить до десят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ета стартует с поверхности Земли и в течение 10 с движется с постоянным ускорением 5 м/с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Затем двигатели ракеты выключаются. Найдите максимальную высоту, на которую поднимется ракета над поверхностью Земл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брошенного мяча непосредственно перед ударом о стену была вдвое больше чем сразу после уда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 количество теплоты выделилось при ударе ,если перед ударом о стену кинетическая энергия мяча была 20 Дж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nastasiaScript"/>
              </a:rPr>
              <a:t>... </a:t>
            </a:r>
            <a:r>
              <a:rPr b="1" lang="ru-RU" sz="5400" spc="-1" strike="noStrike">
                <a:solidFill>
                  <a:srgbClr val="006600"/>
                </a:solidFill>
                <a:latin typeface="AnastasiaScript"/>
              </a:rPr>
              <a:t>в любой загадке таится энергия. </a:t>
            </a:r>
            <a:br>
              <a:rPr sz="5400"/>
            </a:br>
            <a:r>
              <a:rPr b="1" lang="ru-RU" sz="5400" spc="-1" strike="noStrike">
                <a:solidFill>
                  <a:srgbClr val="006600"/>
                </a:solidFill>
                <a:latin typeface="AnastasiaScript"/>
              </a:rPr>
              <a:t>И тот, кто ищет ответ, этой энергией питается.</a:t>
            </a:r>
            <a:br>
              <a:rPr sz="5400"/>
            </a:br>
            <a:r>
              <a:rPr b="1" lang="ru-RU" sz="4400" spc="-1" strike="noStrike">
                <a:solidFill>
                  <a:srgbClr val="006600"/>
                </a:solidFill>
                <a:latin typeface="AnastasiaScript"/>
              </a:rPr>
              <a:t>Джон Фаулз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162160" y="3429000"/>
            <a:ext cx="657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nastasiaScript"/>
              </a:rPr>
              <a:t>... в любой загадке таится____________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nastasiaScript"/>
              </a:rPr>
              <a:t>И тот, кто ищет ответ, этой _________питается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nastasiaScript"/>
              </a:rPr>
              <a:t>Джон Фаулз. Волхв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162160" y="3429000"/>
            <a:ext cx="657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QUIZ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(англ.) -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2"/>
          <p:cNvSpPr/>
          <p:nvPr/>
        </p:nvSpPr>
        <p:spPr>
          <a:xfrm>
            <a:off x="1763640" y="1484280"/>
            <a:ext cx="70106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соревнование , викто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63640" y="24188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1  -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с картин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2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о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ондин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3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и руки не для ску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4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чистого интелл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4"/>
          <p:cNvSpPr/>
          <p:nvPr/>
        </p:nvSpPr>
        <p:spPr>
          <a:xfrm>
            <a:off x="1763640" y="549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1  -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ы с картин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thebester.ru/uploads/images/00/60/57/2011/04/27/7ca2f92d6f.jpg"/>
          <p:cNvPicPr/>
          <p:nvPr/>
        </p:nvPicPr>
        <p:blipFill>
          <a:blip r:embed="rId1"/>
          <a:stretch/>
        </p:blipFill>
        <p:spPr>
          <a:xfrm>
            <a:off x="1476360" y="1268280"/>
            <a:ext cx="61912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allpoper.com/images/00/41/60/78/artwork-bullets_00416078.jpg"/>
          <p:cNvPicPr/>
          <p:nvPr/>
        </p:nvPicPr>
        <p:blipFill>
          <a:blip r:embed="rId1"/>
          <a:stretch/>
        </p:blipFill>
        <p:spPr>
          <a:xfrm>
            <a:off x="1042920" y="765000"/>
            <a:ext cx="79916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ludota.ru/wp-content/uploads/2014/01/Mark-Strenton-strelyaet-iz-longbow.jpg"/>
          <p:cNvPicPr/>
          <p:nvPr/>
        </p:nvPicPr>
        <p:blipFill>
          <a:blip r:embed="rId1"/>
          <a:stretch/>
        </p:blipFill>
        <p:spPr>
          <a:xfrm>
            <a:off x="1619280" y="981000"/>
            <a:ext cx="5715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Администратор\Desktop\урок\1011-990.jpg"/>
          <p:cNvPicPr/>
          <p:nvPr/>
        </p:nvPicPr>
        <p:blipFill>
          <a:blip r:embed="rId1"/>
          <a:stretch/>
        </p:blipFill>
        <p:spPr>
          <a:xfrm>
            <a:off x="1403280" y="692280"/>
            <a:ext cx="7415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835280" y="333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ы на вопросы 1 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692280"/>
          <a:ext cx="4824360" cy="6130800"/>
        </p:xfrm>
        <a:graphic>
          <a:graphicData uri="http://schemas.openxmlformats.org/drawingml/2006/table">
            <a:tbl>
              <a:tblPr/>
              <a:tblGrid>
                <a:gridCol w="1419120"/>
                <a:gridCol w="3405240"/>
              </a:tblGrid>
              <a:tr h="4899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р вопроса по поряд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изки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яжелое тело и рез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утренн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, если отсчет вести от уровня зем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 если -от сидения ст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-8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-10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3132000" y="274680"/>
            <a:ext cx="576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 мир погружен в огромный океан энергии, мы летим в бесконечном пространстве с непостижимой скоростью. Всё вокруг вращается, движется — всё энергия. Перед нами грандиозная задача — найти способы добычи этой энергии. Тогда, извлекая её из этого неисчерпаемого источника, человечество будет продвигаться вперёд гигантскими ша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ола Т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3564000" y="4084200"/>
            <a:ext cx="5111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 по сути своей является энергией, и, размышляя, вы оперируете огромным объёмом этой энергии в быстрой, лёгкой и подвижной форме — в форме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жон Кех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http://asmo.ru/wp-content/uploads/2016/05/346a5d5d8c12630f978ffce7fe519e4c.jpg"/>
          <p:cNvPicPr/>
          <p:nvPr/>
        </p:nvPicPr>
        <p:blipFill>
          <a:blip r:embed="rId1"/>
          <a:stretch/>
        </p:blipFill>
        <p:spPr>
          <a:xfrm>
            <a:off x="0" y="0"/>
            <a:ext cx="3132000" cy="270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s://sxodim.com/uploads/almaty/2016/05/m9cf16f16b0-1200x732.jpg"/>
          <p:cNvPicPr/>
          <p:nvPr/>
        </p:nvPicPr>
        <p:blipFill>
          <a:blip r:embed="rId2"/>
          <a:srcRect l="27606" t="0" r="0" b="0"/>
          <a:stretch/>
        </p:blipFill>
        <p:spPr>
          <a:xfrm>
            <a:off x="0" y="3645000"/>
            <a:ext cx="3348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0:54:47Z</dcterms:created>
  <dc:creator/>
  <dc:description/>
  <dc:language>en-US</dc:language>
  <cp:lastModifiedBy>BEST</cp:lastModifiedBy>
  <dcterms:modified xsi:type="dcterms:W3CDTF">2017-11-20T16:48:42Z</dcterms:modified>
  <cp:revision>216</cp:revision>
  <dc:subject/>
  <dc:title>мел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